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633E7F-E9A4-4F5C-912D-1592E6D645E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F4B469-E0A9-417E-9329-7D8CBFF584D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EFBA83-3960-430A-BFF5-F47AAFD74B6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B84476-170A-40A8-99E0-7FC934EB430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CB7E5A-E055-4D5E-BFD2-E3CBF6DEC23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158D22-52C7-44AE-BC1C-ECD45CC327C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DEC2AB-141A-40BB-885F-D1116394D76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BF083A-B2A8-4653-89E2-497D793C486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C683FB-9CD9-496A-BA2F-E99C60491F2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00FEC3-5785-4E25-89A1-CB878DFA213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7FE68C-FE41-4E48-A9C8-F27685FC165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4E59C1-AD3B-43AF-ADC1-4BF34DB3A48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A08708-AA6C-4591-B7AA-B80CA1D34EE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5E6653-F7AC-4C1F-95BC-6666725D13A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FCB23A-D1F7-48ED-9D9D-AB44F4D2247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709EF0-FE58-46A2-A7AA-A413CA68320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76CF4C-0EA0-4125-9AA6-F4F17BCF187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1B7130-1B33-4EB8-B094-4C0D50080FD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AD0476-9F41-4FAD-A28A-636D1E505F7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09BAB6-7849-4033-8D67-6A9E15035FE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E822FA-3442-4E38-9036-68DCAEFEC41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3B600A-C3FA-4FD0-A7AA-D841318547F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1E6048-CF2E-45CF-BF88-12E1E7D8AE0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C6CB32-4774-464C-B1BF-B98B4529523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331656-1458-4EE0-AE54-26D1CC9A242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FD2AEB-A9BC-4C7F-9C83-5C041A282DA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990E3C-BFB6-4EF3-809E-4F1D510CDD2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7FBB3B-6915-45BC-A536-D48790844CB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CC2137-92E5-41C7-BF4E-6F71C27560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BDA5EC-F6C4-4AD0-8321-29CEC39801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3C64CC-3602-47F0-8F7A-647BEA602D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95E817-3B30-415F-B29E-8D7E65879C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36D8A7-C3C2-40ED-85C7-FD627ED094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D2B14E-D1A1-4FCC-A477-2B5AB6D8EA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290459-0602-4D53-B5FD-B1614939C4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9A3F42-2B9D-4E69-B543-0A961EE6C8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61F136-A81E-474B-92B6-99F2E07A4B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38330E-C981-4AD0-A145-DD7F0D38D7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2AACEB-9798-4348-900D-57C9133E6E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9E51DF-9763-43E6-9C25-3BB4B21ECD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AADBD1-7E54-445E-ABE7-4A40E543D4EF}" type="datetime">
              <a:rPr b="0" lang="nl-NL" sz="1200" spc="-1" strike="noStrike">
                <a:solidFill>
                  <a:srgbClr val="898989"/>
                </a:solidFill>
                <a:latin typeface="Calibri"/>
              </a:rPr>
              <a:t>29-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BCF2F5-33B1-4FE6-A570-90D957DAF5F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BF9CC4-2D3A-4E59-B78D-49B25AB20DE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2980AB-126C-46C1-B2F9-EAB6A6AD524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D8C2A0-FBF7-480E-9EEE-4CBECC4C0D3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AD0536-8849-41BC-A3F2-D38F38489E5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44548F-C518-4E07-9485-44450C33144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F47A27-FD25-4F51-9193-692B5F2C8E3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C68325-7359-41B1-A8C0-B71B5EEF60C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6409A8-6333-453D-9CA8-64DF7212803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E7867D-7C66-4BB2-ACB7-00E5188ED13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682154-09AC-4943-B981-7068F57CA37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6C8C04-0142-4134-8961-426343CCA35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7EB69C-ADAB-4528-926D-48910677C5C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B23595-9741-4E49-B6C7-2EECC3F3C11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79371B-5497-42D1-99ED-D85CBDBA04D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FC9D12-3B23-41F9-9829-B871C6AFA77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189863-5358-4BBC-B7F3-06B888788AF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59A512-3112-4BA9-826F-8A8906383FE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1350CB-10E4-4423-A0F5-B904D200D90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EEBCE7-A3A1-437F-A975-695A929A201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BC33B7-2B95-41F3-8CFA-529FCC9918C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CC6069-00A0-4CF2-BBD6-FA94D99F0F2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97CD86-33AA-4748-B92B-3CA3B251CC6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CA49D9-ADB5-4FCD-B86F-33011CBBE71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8D11D4-EE38-4500-B10F-8EA92B54C53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10383D-D1B2-4725-88B8-E54BF5E3477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1EBD83-D663-41A5-9C18-90FC3488EF1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05D452-46D5-4921-90AA-C0D0E1A4ABA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D2441D-F187-486D-A82D-E736612CF76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C33ED6-A5E1-4817-8B7A-20228B16F18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